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8A6-29C2-4FD4-A653-3593D35D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C61-724A-4A67-BB6C-2891DD1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26B-7A7C-4571-84D1-2CD75D00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D43-DAC6-42F8-B249-05DBCCF7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A0E-7D2C-4E8A-B318-D4A9DB8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43E-E1C1-4D88-A620-C31E5DA8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EEA-DEA8-4B84-8DC3-5CE19CD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2C2-A3E7-469F-995F-67B7CC49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F5E-B0DE-4D4C-B1FF-233AC50C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0CB-711B-4DDE-92DB-CF77F9FE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C96-9756-4ED5-82DB-0F1F34E7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94E-2169-41C3-981F-115186F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8D0-C4CC-4E7F-86BE-FD07E8CC32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4:58Z</dcterms:created>
  <dc:creator> </dc:creator>
  <dc:description/>
  <dc:language>en-US</dc:language>
  <cp:lastModifiedBy> </cp:lastModifiedBy>
  <dcterms:modified xsi:type="dcterms:W3CDTF">2004-06-17T00:25:03Z</dcterms:modified>
  <cp:revision>1</cp:revision>
  <dc:subject/>
  <dc:title>常常喜樂 &lt;1/4&gt; Rejoice Always</dc:title>
</cp:coreProperties>
</file>